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AC10-5B10-4E83-91BD-4C6EFAAE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6E3-4F65-4B92-AFF9-FFC1C178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EC4-17C3-490D-A1E7-47BDDA0B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DB0-C2C0-4144-8D8E-D2F46EA6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38C7-5363-4866-8DDB-6E240E87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F33B-A64C-4982-922E-9DE80A95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90FF-43C1-4696-ADC2-30589248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3B4F-8731-4D92-8E4B-975E76CE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A6C5-620F-46BF-99A9-A648669A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6239-60F0-4F87-9B76-2F46AA25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2707-A814-417E-BA52-39053244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489-86DF-4CB9-8A2F-0C32770D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2343-5D2D-4A7F-B672-78914CAF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839F-4B04-4797-95B9-58F3A4FA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048C-8F06-4899-85CE-0C62DC8C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4767-8FE7-4E36-A0DF-40448D0C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39A7-286D-4DB2-8608-03949CAF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93D-FEBA-46E9-B57F-56B2C4F3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A07-2C5E-4298-8CF8-7F05509D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688-9B34-4C7D-A0E4-29A92C4A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CB2-49DA-487C-9AE0-1F776024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16C-ABF7-489A-96FB-9FCD416B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717-94A0-4B96-8E92-4AADB5F1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496-B46D-43AB-86D7-D5FFBC61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EC91-0ECA-4EF0-91DB-4943F6EB232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5CB3-E326-4EF5-8986-5250A614A78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Bradley Hand ITC"/>
              </a:rPr>
              <a:t>Effects of Poverty on Student Learning and Solutions for Teach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Anita Sandrett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Bradley Hand ITC"/>
              </a:rPr>
              <a:t>Effects of Poverty on Student Learning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In 2006 17% of all children ages 0-17 lived in Pover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Students living in poverty have a greater instance of linguistic problems and lower school achievement than students with average 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Neurological and emotional problems can also be present in students with low 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Bradley Hand ITC"/>
              </a:rPr>
              <a:t>Low SES Students can be an Asset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Every student is different and brings something new to your classroo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Teachers can use the varied cultures and knowledge of every student to benefit their teach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Bradley Hand ITC"/>
              </a:rPr>
              <a:t>What Can Teachers Do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Encourage Stud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Make changes to the curriculum based on students cultural knowledg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Look at what students CAN do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Create a stable and safe environm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Be aware and supporti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Build trust with every stud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02:46:06Z</dcterms:created>
  <dc:creator>Laure Sandretto</dc:creator>
  <dc:description/>
  <dc:language>en-US</dc:language>
  <cp:lastModifiedBy>Laure Sandretto</cp:lastModifiedBy>
  <dcterms:modified xsi:type="dcterms:W3CDTF">2009-08-05T03:03:17Z</dcterms:modified>
  <cp:revision>5</cp:revision>
  <dc:subject/>
  <dc:title>Effects of Poverty on Student Learning and Solutions for Teachers</dc:title>
</cp:coreProperties>
</file>