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340-1839-4C2D-A8B2-E3560626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26B-DAD4-497A-A3C5-67AD93D4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3F6-5330-4543-8F11-A78DFCFC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872-E985-410C-8F6E-A781891B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652E-A032-4ADA-8133-10DC59FA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F488-F701-46B3-ADF8-ECAE432B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DD6E-8988-464C-A7A7-32464DF3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9DC4-77FA-4BE7-A189-F6D0F4E6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CEB5-CA79-48B7-9DC4-98FB5386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3C8D-B18D-457A-BF1A-6BA49CDD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701F-3AF0-4F3A-A2C8-63EC2A8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AF2-E713-40C3-9289-3DFD8F58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DF65-BA92-488D-B7E2-B1D5151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8270-60CC-4784-A743-8F19F622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9D8F-BE80-4BF1-B323-EDDD6592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A069-37A1-4AB3-8A90-DA8C8EA3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C9AF-A3A4-40E6-9B50-6AA701FF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243-F1D2-4F5E-9867-F84D85C7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D41-C618-4D48-886C-60808BA5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61D-A690-466B-B66C-A267FCD9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07C-CC6E-4958-B2A3-0758E963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DD2-227B-4FDC-9A57-030BF741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79F-587F-4898-85E2-F314602F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C1E-7B9F-4C59-AE67-64F7BCE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CAAF-8D8B-47C4-8717-9ADF0F057A4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261-F798-4A22-9105-6E1BDBF203F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Effects of Poverty on Student Learning and Solutions for Teach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Anita Sandret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Bradley Hand ITC"/>
              </a:rPr>
              <a:t>Effects of Poverty on Student Learning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n 2006 17% of all children ages 0-17 lived in Pover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Students living in poverty have a greater instance of linguistic problems and lower school achievement than students with average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Neurological and emotional problems can also be present in students with low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Bradley Hand ITC"/>
              </a:rPr>
              <a:t>Low SES Students can be an Asse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very student is different and brings something new to your classroo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eachers can use the varied cultures and knowledge of every student to benefit their teach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What Can Teachers Do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ncourage Stud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Make changes to the curriculum based on students cultural knowledg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Look at what students CAN do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Create a stable and safe environ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e aware and support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uild trust with every stud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2:46:06Z</dcterms:created>
  <dc:creator>Laure Sandretto</dc:creator>
  <dc:description/>
  <dc:language>en-US</dc:language>
  <cp:lastModifiedBy>Laure Sandretto</cp:lastModifiedBy>
  <dcterms:modified xsi:type="dcterms:W3CDTF">2009-08-05T03:03:17Z</dcterms:modified>
  <cp:revision>5</cp:revision>
  <dc:subject/>
  <dc:title>Effects of Poverty on Student Learning and Solutions for Teachers</dc:title>
</cp:coreProperties>
</file>