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D1A5-7923-4A21-A8F8-ECB83A30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24A-3D90-4190-A791-C9913031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3EC-EFDD-40DD-BCF3-8D777D96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314-CC33-429A-955F-0249DC7E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560E-1809-49DA-B84E-88E32C14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0F45-42D4-4DB4-B698-E61D1F5D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9D16-D0C5-4C0C-9DD0-A57BD743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63C9-6145-4BC2-9B13-5058D67E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5816-D8A6-4978-911F-E16EC694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BE1B-1C67-432D-8698-9CD4CDD7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C61A-780E-40B2-AB2A-BBDA8A06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9CE-0262-467F-BA63-EFB668F8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1A07-EDC8-4FC4-8D4F-7912641E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DD86-11E8-4EAF-8F4E-133EBB75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A978-FD8B-4DC2-B2A0-21948E8A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B4F5-C6FC-48FB-8889-8467B9D4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949D-CA4C-456B-AA0D-F4C47D4C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3627-AF19-4945-9F1A-6E49132D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B34-2FFA-460F-AE10-BEAC6408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C3F3-B5F0-4123-9135-4D27503F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C4A-AD9F-47EE-A7DA-D69EA2C9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ACC-2959-4990-848E-B2114E4F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E720-B0CB-4F2D-B705-3D822B65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C35F-84AF-47F5-8606-504F8E51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5F62-36D8-4212-97B0-9B9A4D833CB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6B7A-9797-4BA2-AF69-69C3516D650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Bradley Hand ITC"/>
              </a:rPr>
              <a:t>Effects of Poverty on Student Learning and Solutions for Teach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Anita Sandrett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Bradley Hand ITC"/>
              </a:rPr>
              <a:t>Effects of Poverty on Student Learning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In 2006 17% of all children ages 0-17 lived in Pover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Students living in poverty have a greater instance of linguistic problems and lower school achievement than students with average S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Neurological and emotional problems can also be present in students with low S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Bradley Hand ITC"/>
              </a:rPr>
              <a:t>Low SES Students can be an Asset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Every student is different and brings something new to your classroo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Teachers can use the varied cultures and knowledge of every student to benefit their teach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Bradley Hand ITC"/>
              </a:rPr>
              <a:t>What Can Teachers Do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Encourage Studen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Make changes to the curriculum based on students cultural knowledg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Look at what students CAN do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Create a stable and safe environm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Be aware and supportiv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Build trust with every stud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02:46:06Z</dcterms:created>
  <dc:creator>Laure Sandretto</dc:creator>
  <dc:description/>
  <dc:language>en-US</dc:language>
  <cp:lastModifiedBy>Laure Sandretto</cp:lastModifiedBy>
  <dcterms:modified xsi:type="dcterms:W3CDTF">2009-08-05T03:03:17Z</dcterms:modified>
  <cp:revision>5</cp:revision>
  <dc:subject/>
  <dc:title>Effects of Poverty on Student Learning and Solutions for Teachers</dc:title>
</cp:coreProperties>
</file>