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2056-F891-4D73-91AD-60FF0C39E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BD4C-DB0E-40CF-B383-CEA1B9557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B4E7-1470-405E-961C-434EFB0F0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93C1-9254-4B05-9124-593041862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B41D8-D0EF-4EB8-A57B-2C82E37CE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3E362-8F9B-41D3-B92B-6285C93BA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69C5D-73DF-4A6A-8F6C-99B02B975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8D9E7-48D9-44C5-92A4-F1BF4D55B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3F86B-CA0D-43ED-8AC7-D2C394716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E062C-CE58-4F60-80D9-835BC303A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B8B24-0C31-41BF-819A-14B3213ED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BD9F-3475-4AD8-9FE9-DE1C02BDB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0D5F5-D69D-484B-8E7D-0108728AE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0A1D0-0F9A-49A0-AD8D-E149DC6CA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B7AA4-C87C-4FA9-BA9B-395FECD1F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3CF51-6111-46F1-91CF-38ADC4D7A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C3851-F2B2-4B76-A518-7D3209C98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2E6A-36F8-4422-A81B-3F78F9119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CADC-6AE5-420B-81DC-63B7AD5C5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E68A-0970-4CD9-B76C-043A9A567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9A16-308F-45CA-AB60-0D99D7500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7245-BC63-478A-BBE9-A9F468837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FE9F-1D3B-4ECC-9C24-31DA8ECCC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DCA4-E631-4B7A-B7F5-46FA87280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2D2BD-BBAC-42AA-8A4F-9A1D143EDC42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5D087-A048-4CA6-AECC-ABA9BA3975F6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d47d"/>
                </a:solidFill>
                <a:latin typeface="Bradley Hand ITC"/>
              </a:rPr>
              <a:t>Effects of Poverty on Student Learning and Solutions for Teacher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Times New Roman"/>
              </a:rPr>
              <a:t>Anita Sandretto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d47d"/>
                </a:solidFill>
                <a:latin typeface="Bradley Hand ITC"/>
              </a:rPr>
              <a:t>Effects of Poverty on Student Learning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Times New Roman"/>
              </a:rPr>
              <a:t>In 2006 17% of all children ages 0-17 lived in Poverty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Times New Roman"/>
              </a:rPr>
              <a:t>Students living in poverty have a greater instance of linguistic problems and lower school achievement than students with average SE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Times New Roman"/>
              </a:rPr>
              <a:t>Neurological and emotional problems can also be present in students with low SE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7d47d"/>
                </a:solidFill>
                <a:latin typeface="Bradley Hand ITC"/>
              </a:rPr>
              <a:t>Low SES Students can be an Asset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Times New Roman"/>
              </a:rPr>
              <a:t>Every student is different and brings something new to your classroom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Times New Roman"/>
              </a:rPr>
              <a:t>Teachers can use the varied cultures and knowledge of every student to benefit their teaching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d47d"/>
                </a:solidFill>
                <a:latin typeface="Bradley Hand ITC"/>
              </a:rPr>
              <a:t>What Can Teachers Do?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Times New Roman"/>
              </a:rPr>
              <a:t>Encourage Student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Times New Roman"/>
              </a:rPr>
              <a:t>Make changes to the curriculum based on students cultural knowledg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Times New Roman"/>
              </a:rPr>
              <a:t>Look at what students CAN do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Times New Roman"/>
              </a:rPr>
              <a:t>Create a stable and safe environmen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Times New Roman"/>
              </a:rPr>
              <a:t>Be aware and supportiv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Times New Roman"/>
              </a:rPr>
              <a:t>Build trust with every studen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5T02:46:06Z</dcterms:created>
  <dc:creator>Laure Sandretto</dc:creator>
  <dc:description/>
  <dc:language>en-US</dc:language>
  <cp:lastModifiedBy>Laure Sandretto</cp:lastModifiedBy>
  <dcterms:modified xsi:type="dcterms:W3CDTF">2009-08-05T03:03:17Z</dcterms:modified>
  <cp:revision>5</cp:revision>
  <dc:subject/>
  <dc:title>Effects of Poverty on Student Learning and Solutions for Teachers</dc:title>
</cp:coreProperties>
</file>