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0C2-9030-4322-AF8F-F4FF1FDE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008-A58E-40B4-8005-A7B3BC9D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9DF-FC85-425B-9FBB-0DA2D84A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9FA-5371-44CF-9509-FF5CD49D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B799-7DF1-43DE-8664-3D680C92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43E1-20F7-4F67-99A2-54C41330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F5E0-593B-429A-8CE2-A5D29EF0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4784-850C-4DBE-A2CD-68C59EF0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F35D-1079-4868-8A94-1372C7F8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AEEC-909E-440E-9505-C59B9B3E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51D8-8DFA-4C6D-89C1-046FEEE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FEE-B8C3-422C-88AC-050E95BD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F5B-1AE1-4DB0-83BF-8027570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D140-28E7-4615-BD3F-C6484C03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02D2-5CF1-4D76-9167-B8173FCF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98A-A0EB-4714-823E-80ED6D2F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957A-08AE-4A60-85FB-CD23AF62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50B-5C1A-4E70-A894-0C289A44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72B-2E56-4743-8EC1-2C3683B0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9AB-1391-4F79-AC84-FDBECE5F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79E-70D4-4B13-8A13-A80DFF90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0E1-E623-46A1-ADF3-08A2B91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DE7-FB41-44B8-B0FF-0417A49F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D17-AD3C-4CA9-9E5A-6DE2E3FB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9B16-041D-485D-9B61-DA330BF989A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091-F7DE-4E3E-AE82-DF7B429823C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Effects of Poverty on Student Learning and Solutions for Teach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Anita Sandret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Bradley Hand ITC"/>
              </a:rPr>
              <a:t>Effects of Poverty on Student Learn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n 2006 17% of all children ages 0-17 lived in Pover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Students living in poverty have a greater instance of linguistic problems and lower school achievement than students with average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Neurological and emotional problems can also be present in students with low 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Bradley Hand ITC"/>
              </a:rPr>
              <a:t>Low SES Students can be an Asse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very student is different and brings something new to your classroo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eachers can use the varied cultures and knowledge of every student to benefit their teach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Bradley Hand ITC"/>
              </a:rPr>
              <a:t>What Can Teachers Do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Encourage Stud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Make changes to the curriculum based on students cultural knowled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Look at what students CAN d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Create a stable and safe enviro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e aware and support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Build trust with every stud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2:46:06Z</dcterms:created>
  <dc:creator>Laure Sandretto</dc:creator>
  <dc:description/>
  <dc:language>en-US</dc:language>
  <cp:lastModifiedBy>Laure Sandretto</cp:lastModifiedBy>
  <dcterms:modified xsi:type="dcterms:W3CDTF">2009-08-05T03:03:17Z</dcterms:modified>
  <cp:revision>5</cp:revision>
  <dc:subject/>
  <dc:title>Effects of Poverty on Student Learning and Solutions for Teachers</dc:title>
</cp:coreProperties>
</file>